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EAF1-0C1E-4D35-8024-D1B0A4629AE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3DD-BC4F-46F2-BA63-26B600C97CE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E38-4B18-49BD-960C-1D062CDE6B3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AB0-94A4-4793-A5C3-DFE77695DB8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A91A-472B-40DE-AE81-E327C3F94A6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18E-F751-4B9D-87A4-E5529596963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22A-6A18-443C-B0E9-43A10E9A5F9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DA9-FEFF-4298-B3E5-DD588A0A932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BE2-2D03-4EA2-BCA9-BE2CEB0CB89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37F1-12DA-4A59-AD2D-76824A7C30C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EB1A-D4CE-44B4-8594-CDC9203C62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156-7051-48CF-85EE-2EA8526247B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AEF-D3C0-488C-906A-3A49BEF70FA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6E34-4A33-4982-A72D-9231B5CC021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76E3-FE38-44FD-8747-CD0A9946189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74B9-3CCA-46E7-8E1D-C07A788E9B9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0D1-B4C8-4A40-B3CA-12A1F87DBD4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AB8-006D-4F71-8B4D-2A9DBD0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EC2-C4CC-487C-9CD6-A7300D34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7BE-C783-41B8-8E1C-B2580887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279-521D-4932-9AE3-83C14BD9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E051-D0F6-4355-9E89-E1C93D3E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CCB-9EA2-4484-BBE9-C195BA69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62DE-0826-4A03-AAE7-FFA87266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20E2-E866-40C9-96C7-43A7AB3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C0C8-1971-4448-A8D4-C16E4E33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12E9-AB88-4452-BE60-B96F8383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003B-8491-401F-A273-9D0B00B0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1C3-E950-429C-94CA-C0EF3B8B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0BD-BCAC-43B9-8C4B-6E3FDF4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EF57-732E-4CBA-B4AF-624F669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73E-0145-4AC4-BCD3-AF913D34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4A85-EA8E-4D1B-A9AE-0A55B6B0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F7E5-76F3-41F9-9440-D167F6D5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19C01-15BE-454A-B34B-33702357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573F2-0812-4EF1-B870-EE11DA90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672A3-FDBF-4BF3-ACE5-A425A1C4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DA4FC-938D-4436-8C44-1973B354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C3EA9-AC7F-4373-A975-A65A554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3E9-FBF1-4EB8-8447-E2C2C740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ED7C9-835C-4D1F-8A57-64195899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E1A57-9921-48BB-B1B3-56111DE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18100-78B2-4EC4-9733-905DF246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5DCC1-2874-4A2D-81CB-C23F492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718C5-75A1-4550-9758-A59FA2A9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34989-A211-489F-B14B-FA700DE5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750FF-875E-453A-87D3-E4B52D35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8107-9E69-410E-876A-20C46A87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4666-CCD1-498E-8D1D-41885493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1722-E053-4E8B-BB07-19E7012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978-4032-44B4-B673-40E44957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CD79-3997-4932-8023-457C2B41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638C-1D60-4E80-8D70-5110294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B9DC-1FAC-4C91-8C17-4DDDB40A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0146-472E-48DF-919B-69F489D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B8F0-A7C9-4EEB-AEB2-D123ECC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83BF-4D0E-463A-BFF9-0C13E5C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60A4-BAE8-4CE7-B6F8-57294A99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75CF-72A3-43AC-ABFB-0E927558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70E8-44F5-4B09-AB08-4C87B3A4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9CB9E-AAF6-4DC1-861B-49C3112A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6E8-7341-491D-A259-E88D6A6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46DCB-9608-4F8E-A54B-0C78A440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78F9E-007F-46CD-870B-894B5E0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EB606-AA5D-42D7-9997-F307B32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62F71-DB8E-44F2-BF76-49D067C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FF534-981C-433F-9E51-BBD5D24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C3E1F-F870-43E7-8644-13ECF35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8FA65-7509-477B-A166-E5EBB9C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E299E-17A1-4CFA-840E-2ADCF14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521C9-7D1A-48EE-AE16-9BD5E30B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2D834-03D9-43B1-A657-AC1BFE7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50C-A81D-4F3E-B6DA-5B6053F5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6A354-1CF7-4426-8033-595749FC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E93B0-3F03-4F40-B5AA-473410B6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857C7-6DCF-45A2-AAF2-01509629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AF9B8-5370-4538-9980-C8660B5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319BF-0498-463D-9872-479F0EF1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6CD5A-73CE-4DA5-88F9-5770067F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0519C-53BB-42D0-BB23-55ABA627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52A48-8E10-4A8A-B3B5-1EFF54E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7FFD3-0C55-4C1D-8100-7DD534D4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84D63-3629-418D-B19D-837606F4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4FA-9453-4FD6-8796-1AAAED48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BEE02-6836-48CB-9096-C948270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B7A53-861F-4377-8BF3-4402753B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332E4-5575-4B57-B5FD-5ADC9825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8E790-5937-4480-94A7-66078F55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37C12-1B36-4B1B-969A-12BA9D27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4298E-0EC5-42D4-B68A-D4F7B237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710A8-00FA-4DF1-BB54-DDEC4844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C9133-0892-4A17-8938-FC3AE44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37413-E83A-4C59-AAA3-D75D4CBB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DDFCC-BFDA-44DE-9100-B0D6449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C1B-05D3-4603-9DDB-963D870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2F79F-A114-43E6-B988-25CA9A6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AF776-C7ED-452E-8090-CB6EDE5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5CFE2-02FA-48D9-B8C5-42AF7FB9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1A561-9C36-4653-AEE2-36B7F574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EF24C-8E3A-4877-9EC0-9EC03436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582-52E4-4CE0-88F1-16DF3AC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98E-AB60-4D00-B74A-0F70CB15A5A9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AD0B-5D05-4003-8DD8-0B288BC0496B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9CB4-A740-44AB-80E7-4E187FC399A1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3F3B-0854-482E-8907-768F760C95C0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59A-F683-4322-9FC9-A3C44D492229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E1AA-AA8D-4C19-B5DC-2986CBD0603A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35E8-995B-4062-A39D-B282528551B6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600" spc="-1" strike="noStrike">
                <a:solidFill>
                  <a:srgbClr val="fe8637"/>
                </a:solidFill>
                <a:latin typeface="Century Schoolbook"/>
              </a:rPr>
              <a:t>CARBOXYLIC ACIDS</a:t>
            </a:r>
            <a:endParaRPr b="0" lang="en-US" sz="5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CA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CA" sz="1800" spc="-1" strike="noStrike">
                <a:solidFill>
                  <a:srgbClr val="fe8637"/>
                </a:solidFill>
                <a:latin typeface="Century Schoolbook"/>
              </a:rPr>
              <a:t>by Lily Haines and Nikole Wats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ontent Placeholder 5" descr="table.jpg"/>
          <p:cNvPicPr/>
          <p:nvPr/>
        </p:nvPicPr>
        <p:blipFill>
          <a:blip r:embed="rId1"/>
          <a:srcRect l="0" t="0" r="27502" b="61399"/>
          <a:stretch/>
        </p:blipFill>
        <p:spPr>
          <a:xfrm>
            <a:off x="324000" y="692280"/>
            <a:ext cx="7934040" cy="2736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7"/>
          <p:cNvSpPr/>
          <p:nvPr/>
        </p:nvSpPr>
        <p:spPr>
          <a:xfrm>
            <a:off x="971640" y="422100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 general formula of a carboxylic acid is R-COOH, where R is the rest of the chai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2484360" y="3284640"/>
            <a:ext cx="34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www.webchem.net/powerpoint/</a:t>
            </a:r>
            <a:r>
              <a:rPr b="1" lang="en-CA" sz="1000" spc="-1" strike="noStrike">
                <a:solidFill>
                  <a:srgbClr val="000000"/>
                </a:solidFill>
                <a:latin typeface="Century Schoolbook"/>
              </a:rPr>
              <a:t>Carboxylic</a:t>
            </a: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_</a:t>
            </a:r>
            <a:r>
              <a:rPr b="1" lang="en-CA" sz="1000" spc="-1" strike="noStrike">
                <a:solidFill>
                  <a:srgbClr val="000000"/>
                </a:solidFill>
                <a:latin typeface="Century Schoolbook"/>
              </a:rPr>
              <a:t>Acids</a:t>
            </a: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.ppt</a:t>
            </a:r>
            <a:r>
              <a:rPr b="0" lang="en-C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SALTS OF CARBOXYLIC ACI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When the carboxylic acids form salts, the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hydrogen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 in the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-COOH 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group is replaced by a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metal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There is an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ionic bond 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between the metal and the carboxylic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In the formula, the sodium is at the end, but appears first in the na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3640" y="404280"/>
            <a:ext cx="7600680" cy="60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sodium propanoate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is is the sodium salt of propanoic acid - so start from that. Propanoic acid is a three carbon acid with no carbon-carbon double bo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In a shortened version, sodium propanoate would be written 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3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2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OONa or, if you wanted to emphasise the ionic nature, as 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3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2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OO</a:t>
            </a:r>
            <a:r>
              <a:rPr b="0" i="1" lang="en-CA" sz="2400" spc="-1" strike="noStrike" baseline="30000">
                <a:solidFill>
                  <a:srgbClr val="fe8637"/>
                </a:solidFill>
                <a:latin typeface="Century Schoolbook"/>
              </a:rPr>
              <a:t>-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 Na</a:t>
            </a:r>
            <a:r>
              <a:rPr b="0" i="1" lang="en-CA" sz="2400" spc="-1" strike="noStrike" baseline="30000">
                <a:solidFill>
                  <a:srgbClr val="fe8637"/>
                </a:solidFill>
                <a:latin typeface="Century Schoolbook"/>
              </a:rPr>
              <a:t>+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3" descr="salt.gif"/>
          <p:cNvPicPr/>
          <p:nvPr/>
        </p:nvPicPr>
        <p:blipFill>
          <a:blip r:embed="rId1"/>
          <a:stretch/>
        </p:blipFill>
        <p:spPr>
          <a:xfrm>
            <a:off x="2268360" y="4292640"/>
            <a:ext cx="4021200" cy="21114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3612240" y="6308640"/>
            <a:ext cx="119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chemguide.co.uk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REACTION PROPERT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Smaller carboxylic acids (1-5 carbons) are polar or soluble with water. Carboxylic acids with higher numbers of carbons are less soluble due to increasing hydrophobic nature of the alkyl chai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Higher boiling points than water (larger surface are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Weak ac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Strong od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3" descr="cinnamon-rolls.jpg"/>
          <p:cNvPicPr/>
          <p:nvPr/>
        </p:nvPicPr>
        <p:blipFill>
          <a:blip r:embed="rId1"/>
          <a:stretch/>
        </p:blipFill>
        <p:spPr>
          <a:xfrm>
            <a:off x="3564000" y="4076640"/>
            <a:ext cx="3024000" cy="2313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3584520" y="6381720"/>
            <a:ext cx="223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sideoatsandscribbles.wumple.com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75f6d"/>
                </a:solidFill>
                <a:latin typeface="Century Schoolbook"/>
              </a:rPr>
              <a:t>IN SOLUTION IN WATER, A HYDROGEN ION IS TRANSFERRED FROM THE -COOH GROUP TO A WATER MOLECULE. FOR EXAMPLE, WITH ETHANOIC ACID, YOU GET AN ETHANOATE ION FORMED TOGETHER WITH A HYDROXONIUM ION, H</a:t>
            </a:r>
            <a:r>
              <a:rPr b="0" lang="en-CA" sz="1800" spc="-1" strike="noStrike" baseline="-25000">
                <a:solidFill>
                  <a:srgbClr val="575f6d"/>
                </a:solidFill>
                <a:latin typeface="Century Schoolbook"/>
              </a:rPr>
              <a:t>3</a:t>
            </a:r>
            <a:r>
              <a:rPr b="0" lang="en-CA" sz="1800" spc="-1" strike="noStrike">
                <a:solidFill>
                  <a:srgbClr val="575f6d"/>
                </a:solidFill>
                <a:latin typeface="Century Schoolbook"/>
              </a:rPr>
              <a:t>O</a:t>
            </a:r>
            <a:r>
              <a:rPr b="0" lang="en-CA" sz="1800" spc="-1" strike="noStrike" baseline="30000">
                <a:solidFill>
                  <a:srgbClr val="575f6d"/>
                </a:solidFill>
                <a:latin typeface="Century Schoolbook"/>
              </a:rPr>
              <a:t>+</a:t>
            </a:r>
            <a:r>
              <a:rPr b="0" lang="en-CA" sz="1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12" descr="arrow.jpg"/>
          <p:cNvPicPr/>
          <p:nvPr/>
        </p:nvPicPr>
        <p:blipFill>
          <a:blip r:embed="rId1"/>
          <a:srcRect l="15036" t="29253" r="58225" b="43224"/>
          <a:stretch/>
        </p:blipFill>
        <p:spPr>
          <a:xfrm>
            <a:off x="1908000" y="4653000"/>
            <a:ext cx="1727280" cy="1152360"/>
          </a:xfrm>
          <a:prstGeom prst="rect">
            <a:avLst/>
          </a:prstGeom>
          <a:ln w="0">
            <a:noFill/>
          </a:ln>
        </p:spPr>
      </p:pic>
      <p:sp>
        <p:nvSpPr>
          <p:cNvPr id="402" name="Plus 13"/>
          <p:cNvSpPr/>
          <p:nvPr/>
        </p:nvSpPr>
        <p:spPr>
          <a:xfrm>
            <a:off x="3419640" y="227664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5008680" y="3357720"/>
            <a:ext cx="192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http://www.google.ca/imgres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5148360" y="58770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Microsoft Pain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2347920" y="2141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TextBox 20"/>
          <p:cNvSpPr/>
          <p:nvPr/>
        </p:nvSpPr>
        <p:spPr>
          <a:xfrm>
            <a:off x="2195640" y="141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Box 21"/>
          <p:cNvSpPr/>
          <p:nvPr/>
        </p:nvSpPr>
        <p:spPr>
          <a:xfrm>
            <a:off x="2195640" y="19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TextBox 22"/>
          <p:cNvSpPr/>
          <p:nvPr/>
        </p:nvSpPr>
        <p:spPr>
          <a:xfrm>
            <a:off x="324000" y="357336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http://www.google.ca/imgres?imgurl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23" descr="chemmm.png"/>
          <p:cNvPicPr/>
          <p:nvPr/>
        </p:nvPicPr>
        <p:blipFill>
          <a:blip r:embed="rId2"/>
          <a:stretch/>
        </p:blipFill>
        <p:spPr>
          <a:xfrm>
            <a:off x="468360" y="1844640"/>
            <a:ext cx="2225520" cy="151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4" descr="h2o.gif"/>
          <p:cNvPicPr/>
          <p:nvPr/>
        </p:nvPicPr>
        <p:blipFill>
          <a:blip r:embed="rId3"/>
          <a:stretch/>
        </p:blipFill>
        <p:spPr>
          <a:xfrm>
            <a:off x="5003640" y="2060640"/>
            <a:ext cx="1952640" cy="1000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5" descr="equation.jpg"/>
          <p:cNvPicPr/>
          <p:nvPr/>
        </p:nvPicPr>
        <p:blipFill>
          <a:blip r:embed="rId4"/>
          <a:srcRect l="0" t="22865" r="9166" b="37655"/>
          <a:stretch/>
        </p:blipFill>
        <p:spPr>
          <a:xfrm>
            <a:off x="3564000" y="4365720"/>
            <a:ext cx="485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WORK CITED P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http://www.chemguide.co.uk/organicprops/acids/background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www.chatt.hdsb.ca/~smallbonel/.../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Carboxylic</a:t>
            </a: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%20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acids</a:t>
            </a: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%20note.doc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http://en.wikipedia.org/wiki/Carboxylic_ac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http://www.cliffsnotes.com/study_guide/Reactions-of-Carboxylic-Acids.topicArticleId-23297,articleId-23285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Corey, Paul F.,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Carboxylic Acids and their Derivatives.», General Chemistry. New York: MacMillan Publishing Company, 1989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3" descr=""/>
          <p:cNvPicPr/>
          <p:nvPr/>
        </p:nvPicPr>
        <p:blipFill>
          <a:blip r:embed="rId1"/>
          <a:stretch/>
        </p:blipFill>
        <p:spPr>
          <a:xfrm>
            <a:off x="1657440" y="2017800"/>
            <a:ext cx="76518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 rot="5400000">
            <a:off x="337140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1" lang="en-CA" sz="20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1" lang="en-CA" sz="2000" spc="-1" strike="noStrike">
                <a:solidFill>
                  <a:srgbClr val="fe8637"/>
                </a:solidFill>
                <a:latin typeface="Century Schoolbook"/>
              </a:rPr>
              <a:t>INTRODUCTION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3640" y="529920"/>
            <a:ext cx="5638680" cy="63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CA" sz="3200" spc="-1" strike="noStrike">
                <a:solidFill>
                  <a:srgbClr val="fe8637"/>
                </a:solidFill>
                <a:latin typeface="Century Schoolbook"/>
              </a:rPr>
              <a:t>Aldehydes and ketones with </a:t>
            </a:r>
            <a:r>
              <a:rPr b="0" lang="en-CA" sz="3200" spc="-1" strike="noStrike">
                <a:solidFill>
                  <a:srgbClr val="b32c16"/>
                </a:solidFill>
                <a:latin typeface="Century Schoolbook"/>
              </a:rPr>
              <a:t>carboxylic acids </a:t>
            </a:r>
            <a:r>
              <a:rPr b="0" lang="en-CA" sz="3200" spc="-1" strike="noStrike">
                <a:solidFill>
                  <a:srgbClr val="fe8637"/>
                </a:solidFill>
                <a:latin typeface="Century Schoolbook"/>
              </a:rPr>
              <a:t>are widespread in plants and animal kingdom. They play a significant role in biochemical processes of life. They add smell and flavour to nature, for example, the very pleasant fragrances of vanillin and cinnamaldehyd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lily-rd.jpg"/>
          <p:cNvPicPr/>
          <p:nvPr/>
        </p:nvPicPr>
        <p:blipFill>
          <a:blip r:embed="rId1"/>
          <a:stretch/>
        </p:blipFill>
        <p:spPr>
          <a:xfrm>
            <a:off x="6372360" y="1700280"/>
            <a:ext cx="2249280" cy="3024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6516720" y="549360"/>
            <a:ext cx="194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e8637"/>
                </a:solidFill>
                <a:latin typeface="Century Schoolbook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Carboxylic acids are found in many common household items: </a:t>
            </a:r>
            <a:r>
              <a:rPr b="0" lang="en-US" sz="2800" spc="-1" strike="noStrike">
                <a:solidFill>
                  <a:srgbClr val="b32c16"/>
                </a:solidFill>
                <a:latin typeface="Century Schoolbook"/>
              </a:rPr>
              <a:t>vinegar and salad dressing, citrus fruits, rhubarb, yogur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The feeling that you get in your legs after running for a long time is caused by the build up of the carboxylic acid, </a:t>
            </a:r>
            <a:r>
              <a:rPr b="0" lang="en-US" sz="2800" spc="-1" strike="noStrike">
                <a:solidFill>
                  <a:srgbClr val="b32c16"/>
                </a:solidFill>
                <a:latin typeface="Century Schoolbook"/>
              </a:rPr>
              <a:t>“lactic acid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4" descr="yogurt.jpg"/>
          <p:cNvPicPr/>
          <p:nvPr/>
        </p:nvPicPr>
        <p:blipFill>
          <a:blip r:embed="rId1"/>
          <a:stretch/>
        </p:blipFill>
        <p:spPr>
          <a:xfrm>
            <a:off x="4500720" y="3860640"/>
            <a:ext cx="2158920" cy="2735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5"/>
          <p:cNvSpPr/>
          <p:nvPr/>
        </p:nvSpPr>
        <p:spPr>
          <a:xfrm>
            <a:off x="5197320" y="645336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wdexpo.org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6" descr="grapefruit.jpg"/>
          <p:cNvPicPr/>
          <p:nvPr/>
        </p:nvPicPr>
        <p:blipFill>
          <a:blip r:embed="rId2"/>
          <a:stretch/>
        </p:blipFill>
        <p:spPr>
          <a:xfrm>
            <a:off x="0" y="4040280"/>
            <a:ext cx="4211640" cy="28177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8"/>
          <p:cNvSpPr/>
          <p:nvPr/>
        </p:nvSpPr>
        <p:spPr>
          <a:xfrm>
            <a:off x="0" y="6603840"/>
            <a:ext cx="47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http://www.google.ca/imgres?imgurl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hemistry.jpg"/>
          <p:cNvPicPr/>
          <p:nvPr/>
        </p:nvPicPr>
        <p:blipFill>
          <a:blip r:embed="rId1"/>
          <a:stretch/>
        </p:blipFill>
        <p:spPr>
          <a:xfrm>
            <a:off x="324000" y="189000"/>
            <a:ext cx="5760720" cy="57610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"/>
          <p:cNvSpPr/>
          <p:nvPr/>
        </p:nvSpPr>
        <p:spPr>
          <a:xfrm>
            <a:off x="1835280" y="609300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entury Schoolbook"/>
              </a:rPr>
              <a:t>http://www.google.ca/images?um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e8637"/>
                </a:solidFill>
                <a:latin typeface="Century Schoolbook"/>
              </a:rPr>
              <a:t>GENERAL STRUCTU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e8637"/>
                </a:solidFill>
                <a:latin typeface="Century Schoolbook"/>
              </a:rPr>
              <a:t>Carboxylic acids contain a </a:t>
            </a:r>
            <a:r>
              <a:rPr b="1" lang="en-CA" sz="2400" spc="-1" strike="noStrike">
                <a:solidFill>
                  <a:srgbClr val="b32c16"/>
                </a:solidFill>
                <a:latin typeface="Century Schoolbook"/>
              </a:rPr>
              <a:t>-COOH </a:t>
            </a:r>
            <a:r>
              <a:rPr b="1" lang="en-CA" sz="2400" spc="-1" strike="noStrike">
                <a:solidFill>
                  <a:srgbClr val="fe8637"/>
                </a:solidFill>
                <a:latin typeface="Century Schoolbook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3" descr="cooh.jpg"/>
          <p:cNvPicPr/>
          <p:nvPr/>
        </p:nvPicPr>
        <p:blipFill>
          <a:blip r:embed="rId1"/>
          <a:srcRect l="8164" t="-237" r="21432" b="16731"/>
          <a:stretch/>
        </p:blipFill>
        <p:spPr>
          <a:xfrm>
            <a:off x="971640" y="1989000"/>
            <a:ext cx="6121440" cy="47008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716360" y="220500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e8637"/>
                </a:solidFill>
                <a:latin typeface="Century Schoolbook"/>
              </a:rPr>
              <a:t>The “-COOH” attachment is also known as the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carboxyl group</a:t>
            </a:r>
            <a:r>
              <a:rPr b="1" lang="en-CA" sz="28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2386440" y="6308640"/>
            <a:ext cx="10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Microsoft Pain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NAMING SCHE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 name counts the total number of carbon atoms in the longest chain - including the one in the -COOH group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If you have other groups attached to the parent chain, the carbon in the –COOH group is always counted as number 1 on the chai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y are named by adding –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oic acid 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onto the end of the carbon skelet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 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substituents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 are named as in other 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aliphatic compound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476280"/>
            <a:ext cx="771516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 1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3-methylbutanoic acid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is is a four carbon acid with no carbon-carbon double bonds. There is a methyl group on the third carbon (counting the -COOH carbon as number 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3" descr="cooh1.gif"/>
          <p:cNvPicPr/>
          <p:nvPr/>
        </p:nvPicPr>
        <p:blipFill>
          <a:blip r:embed="rId1"/>
          <a:stretch/>
        </p:blipFill>
        <p:spPr>
          <a:xfrm>
            <a:off x="1403280" y="3789360"/>
            <a:ext cx="5313600" cy="19875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2884320" y="587700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docbrown.info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770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 2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2-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hydroxypropanoic acid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 (or lactic acid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e </a:t>
            </a:r>
            <a:r>
              <a:rPr b="1" i="1" lang="en-CA" sz="2400" spc="-1" strike="noStrike">
                <a:solidFill>
                  <a:srgbClr val="b32c16"/>
                </a:solidFill>
                <a:latin typeface="Century Schoolbook"/>
              </a:rPr>
              <a:t>hydroxy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 part of the name shows the presence of an </a:t>
            </a:r>
            <a:r>
              <a:rPr b="0" i="1" lang="en-CA" sz="2400" spc="-1" strike="noStrike">
                <a:solidFill>
                  <a:srgbClr val="b32c16"/>
                </a:solidFill>
                <a:latin typeface="Century Schoolbook"/>
              </a:rPr>
              <a:t>-OH 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group. Normally, you would show that by the ending </a:t>
            </a:r>
            <a:r>
              <a:rPr b="1" i="1" lang="en-CA" sz="2400" spc="-1" strike="noStrike">
                <a:solidFill>
                  <a:srgbClr val="b32c16"/>
                </a:solidFill>
                <a:latin typeface="Century Schoolbook"/>
              </a:rPr>
              <a:t>ol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, but this time you can't because you've already got another ending. You are forced into this alternative way of describing i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3" descr="cooh2.gif"/>
          <p:cNvPicPr/>
          <p:nvPr/>
        </p:nvPicPr>
        <p:blipFill>
          <a:blip r:embed="rId1"/>
          <a:stretch/>
        </p:blipFill>
        <p:spPr>
          <a:xfrm>
            <a:off x="1835280" y="3789360"/>
            <a:ext cx="4835520" cy="23763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036240" y="6093000"/>
            <a:ext cx="119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chemguide.co.uk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23640" y="333000"/>
            <a:ext cx="76006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 3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2-chlorobut-3-enoic acid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is time, not only is there a chlorine attached to the chain, but the chain also contains </a:t>
            </a:r>
            <a:r>
              <a:rPr b="0" i="1" lang="en-CA" sz="2400" spc="-1" strike="noStrike">
                <a:solidFill>
                  <a:srgbClr val="b32c16"/>
                </a:solidFill>
                <a:latin typeface="Century Schoolbook"/>
              </a:rPr>
              <a:t>a carbon-carbon double bond (</a:t>
            </a:r>
            <a:r>
              <a:rPr b="1" i="1" lang="en-CA" sz="2400" spc="-1" strike="noStrike">
                <a:solidFill>
                  <a:srgbClr val="b32c16"/>
                </a:solidFill>
                <a:latin typeface="Century Schoolbook"/>
              </a:rPr>
              <a:t>en</a:t>
            </a:r>
            <a:r>
              <a:rPr b="0" i="1" lang="en-CA" sz="2400" spc="-1" strike="noStrike">
                <a:solidFill>
                  <a:srgbClr val="b32c16"/>
                </a:solidFill>
                <a:latin typeface="Century Schoolbook"/>
              </a:rPr>
              <a:t>) 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starting on the number 3 carbon (counting the -COOH carbon as number 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cooh3.bmp"/>
          <p:cNvPicPr/>
          <p:nvPr/>
        </p:nvPicPr>
        <p:blipFill>
          <a:blip r:embed="rId1"/>
          <a:stretch/>
        </p:blipFill>
        <p:spPr>
          <a:xfrm>
            <a:off x="971640" y="3429000"/>
            <a:ext cx="6048360" cy="18892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3178080" y="544500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www.zimbio.com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1:04:20Z</dcterms:created>
  <dc:creator>Greg Haines</dc:creator>
  <dc:description/>
  <dc:language>en-US</dc:language>
  <cp:lastModifiedBy>Administrator</cp:lastModifiedBy>
  <dcterms:modified xsi:type="dcterms:W3CDTF">2010-09-27T18:56:23Z</dcterms:modified>
  <cp:revision>23</cp:revision>
  <dc:subject/>
  <dc:title>Carboxylic Acids</dc:title>
</cp:coreProperties>
</file>